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56B-4F6D-4D48-BD75-AA9611EB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FB3-261A-4009-BA95-4ACD319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789-03A2-48D8-8369-F2B91DA6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745-E343-4001-98F5-C30AF054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D4B-DCD5-46F4-8DC4-979315A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3AE-753C-4347-8AC2-6B5125A8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64A-F106-41AC-9BC1-351BC5D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B25-A5A3-412E-8CD6-24EA06B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1FE-30D7-4627-AA47-2EDA1B3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4C6-9D28-47DD-9012-9F97812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381-F9C1-418A-84F8-0FCBB37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A07-D054-4371-B87E-AEA1145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03C7-E512-4B59-B6BF-AF6257E51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inAlign-Integration mit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ASA Networ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bereits in Funktion und ASANET zertifiz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Align kann Arbeitsauft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arten und bee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Align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ann Kunden und-Auftragsdaten von dem ASAnetwork-Manager ho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Align unterstützt das XML-Dat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XML Dat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en-Übertragung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WinAlign erstellt ein XML Protokoll zu den  Achsmessdaten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55600" y="1828800"/>
            <a:ext cx="5456160" cy="49068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XML Dat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en Betrachter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a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XML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Protokoll wird von dem asanetwork gespeicher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as XML Protokoll kann zu einem späteren Zeitpunkt von dem asanetwork Betrachter besichtigt werde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2000" y="1676520"/>
            <a:ext cx="3911400" cy="51814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XML Dat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en Ausdruck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i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XML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aten können auch gedruckt werde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46320" y="1752480"/>
            <a:ext cx="4183200" cy="495324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SA Network aktiviere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SA Network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wird als Option in den WinAlign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Grundeinstellungen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 freigeschalte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5240" y="1981080"/>
            <a:ext cx="6932520" cy="45864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inAlign 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starten....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er Bediener drückt auf Achsvermessung starten, um mit dem Achsmessprogramm zu beginne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6172200" cy="445752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inAlign asanetwork 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Bildschir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8720" y="1904760"/>
            <a:ext cx="2724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WinAlign asanetwork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Bildschirm erscheint als erster Schritt im Achsmessprogramm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er Bediener hat eine Übersicht aller neuen und offenen Arbeitsaufträge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er Bediener wählt einen neuen Auftrag aus und drückt auf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Auftrag starte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ieser Bildschirm verwendet die asanetwork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ctiveX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Kontrolle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5240" y="1981080"/>
            <a:ext cx="6932520" cy="47926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Auftrag gestartet....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er Bildschirm zeigt, dass der Auftrag jetzt aktiviert ist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Andere Geräte die mit dem Network verknüpft sind, sehen dass der Auftrag vom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 Gerät gewählt und gestartet wurde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5240" y="1981080"/>
            <a:ext cx="6932520" cy="479916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asanetwork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Auftrags-Inform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De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WinAlign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Auftragsmanage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zeigt Informationen die von dem asanetwork-Auftrag geholt wurd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Kundenname, Telefonnummer, Fahrzeugmodell, Kennzeichen und Kilometerstand wurden alle von dem asanetwork übertrag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5240" y="1981080"/>
            <a:ext cx="6932520" cy="479916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inAlign A</a:t>
            </a: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chsvermessu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er Bediener führt durch das Achmessprogamm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Während der Vermessung werden „Eingangs- und Ausgangsmesswerte“ erstellt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iese Daten werden im XML Format an den asanetwork weiter gegeben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5240" y="1447920"/>
            <a:ext cx="2763720" cy="182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43040" y="1981080"/>
            <a:ext cx="2643120" cy="183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38400" y="2438280"/>
            <a:ext cx="2763720" cy="182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16200" y="2971800"/>
            <a:ext cx="2643120" cy="183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76440" y="3581280"/>
            <a:ext cx="2763720" cy="182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137040" y="4267080"/>
            <a:ext cx="276372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797280" y="4878360"/>
            <a:ext cx="2763720" cy="182736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Auftrag komplet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68720" y="1905120"/>
            <a:ext cx="272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Wenn der Bediener die Vermessung beendet hat wird das asanetwork von WinAlign informiert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5240" y="1981080"/>
            <a:ext cx="693252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808000"/>
                </a:solidFill>
                <a:latin typeface="Times New Roman"/>
              </a:rPr>
              <a:t>Auftrag beend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82000" y="1905120"/>
            <a:ext cx="231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Das asanetwork in WinAlign zeigt, dass die Vermessung mit dem Hunter Gerät jetzt beendet is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Andere im Netzwerk befindenden Geräten erkennen, dass die Vermessung mit dem Hunter Gerät beendet is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5240" y="1905120"/>
            <a:ext cx="6932520" cy="479736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5:27:55Z</dcterms:created>
  <dc:creator>Tim Larson</dc:creator>
  <dc:description/>
  <dc:language>en-US</dc:language>
  <cp:lastModifiedBy>madams</cp:lastModifiedBy>
  <dcterms:modified xsi:type="dcterms:W3CDTF">2005-03-31T09:14:50Z</dcterms:modified>
  <cp:revision>24</cp:revision>
  <dc:subject/>
  <dc:title>WinAlign integration with ASANetwork</dc:title>
</cp:coreProperties>
</file>